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8C8699-C282-46FF-8A9A-A9216C8E9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otic protest became even more frenzied when troops began releasing tear gas into the cro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ictures from the pro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stors facing down Army troops (on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public outcry against the government---allowed children to be slaugh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76320" y="76320"/>
            <a:ext cx="1828800" cy="1189080"/>
            <a:chOff x="76320" y="76320"/>
            <a:chExt cx="1828800" cy="1189080"/>
          </a:xfrm>
        </p:grpSpPr>
        <p:sp>
          <p:nvSpPr>
            <p:cNvPr id="2" name=""/>
            <p:cNvSpPr/>
            <p:nvPr/>
          </p:nvSpPr>
          <p:spPr>
            <a:xfrm>
              <a:off x="76320" y="76320"/>
              <a:ext cx="1828800" cy="1189080"/>
            </a:xfrm>
            <a:prstGeom prst="rect">
              <a:avLst/>
            </a:pr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76440" y="368280"/>
              <a:ext cx="628560" cy="598680"/>
            </a:xfrm>
            <a:custGeom>
              <a:avLst/>
              <a:gdLst/>
              <a:ahLst/>
              <a:rect l="l" t="t" r="r" b="b"/>
              <a:pathLst>
                <a:path w="790" h="752">
                  <a:moveTo>
                    <a:pt x="395" y="0"/>
                  </a:moveTo>
                  <a:lnTo>
                    <a:pt x="496" y="289"/>
                  </a:lnTo>
                  <a:lnTo>
                    <a:pt x="790" y="287"/>
                  </a:lnTo>
                  <a:lnTo>
                    <a:pt x="548" y="447"/>
                  </a:lnTo>
                  <a:lnTo>
                    <a:pt x="639" y="752"/>
                  </a:lnTo>
                  <a:lnTo>
                    <a:pt x="403" y="557"/>
                  </a:lnTo>
                  <a:lnTo>
                    <a:pt x="150" y="752"/>
                  </a:lnTo>
                  <a:lnTo>
                    <a:pt x="257" y="447"/>
                  </a:lnTo>
                  <a:lnTo>
                    <a:pt x="0" y="287"/>
                  </a:lnTo>
                  <a:lnTo>
                    <a:pt x="296" y="289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7391520" y="108000"/>
            <a:ext cx="1741320" cy="1176120"/>
            <a:chOff x="7391520" y="108000"/>
            <a:chExt cx="1741320" cy="1176120"/>
          </a:xfrm>
        </p:grpSpPr>
        <p:sp>
          <p:nvSpPr>
            <p:cNvPr id="5" name=""/>
            <p:cNvSpPr/>
            <p:nvPr/>
          </p:nvSpPr>
          <p:spPr>
            <a:xfrm>
              <a:off x="7429680" y="150840"/>
              <a:ext cx="1703160" cy="1133280"/>
            </a:xfrm>
            <a:custGeom>
              <a:avLst/>
              <a:gdLst/>
              <a:ahLst/>
              <a:rect l="l" t="t" r="r" b="b"/>
              <a:pathLst>
                <a:path w="3218" h="2141">
                  <a:moveTo>
                    <a:pt x="0" y="0"/>
                  </a:moveTo>
                  <a:lnTo>
                    <a:pt x="3218" y="0"/>
                  </a:lnTo>
                  <a:lnTo>
                    <a:pt x="3218" y="2141"/>
                  </a:lnTo>
                  <a:lnTo>
                    <a:pt x="12" y="2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91520" y="108000"/>
              <a:ext cx="1701720" cy="1123920"/>
            </a:xfrm>
            <a:custGeom>
              <a:avLst/>
              <a:gdLst/>
              <a:ahLst/>
              <a:rect l="l" t="t" r="r" b="b"/>
              <a:pathLst>
                <a:path w="3215" h="2124">
                  <a:moveTo>
                    <a:pt x="0" y="0"/>
                  </a:moveTo>
                  <a:lnTo>
                    <a:pt x="3215" y="0"/>
                  </a:lnTo>
                  <a:lnTo>
                    <a:pt x="3215" y="2124"/>
                  </a:lnTo>
                  <a:lnTo>
                    <a:pt x="0" y="2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91520" y="108000"/>
              <a:ext cx="696960" cy="603360"/>
            </a:xfrm>
            <a:custGeom>
              <a:avLst/>
              <a:gdLst/>
              <a:ahLst/>
              <a:rect l="l" t="t" r="r" b="b"/>
              <a:pathLst>
                <a:path w="1318" h="1138">
                  <a:moveTo>
                    <a:pt x="0" y="0"/>
                  </a:moveTo>
                  <a:lnTo>
                    <a:pt x="1318" y="0"/>
                  </a:lnTo>
                  <a:lnTo>
                    <a:pt x="1318" y="1138"/>
                  </a:lnTo>
                  <a:lnTo>
                    <a:pt x="0" y="11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88480" y="10800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3">
                  <a:moveTo>
                    <a:pt x="0" y="0"/>
                  </a:moveTo>
                  <a:lnTo>
                    <a:pt x="4" y="163"/>
                  </a:lnTo>
                  <a:lnTo>
                    <a:pt x="1899" y="162"/>
                  </a:lnTo>
                  <a:lnTo>
                    <a:pt x="18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88480" y="28116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6">
                  <a:moveTo>
                    <a:pt x="4" y="0"/>
                  </a:moveTo>
                  <a:lnTo>
                    <a:pt x="0" y="164"/>
                  </a:lnTo>
                  <a:lnTo>
                    <a:pt x="1899" y="166"/>
                  </a:lnTo>
                  <a:lnTo>
                    <a:pt x="189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88480" y="452520"/>
              <a:ext cx="1004760" cy="83880"/>
            </a:xfrm>
            <a:custGeom>
              <a:avLst/>
              <a:gdLst/>
              <a:ahLst/>
              <a:rect l="l" t="t" r="r" b="b"/>
              <a:pathLst>
                <a:path w="1899" h="161">
                  <a:moveTo>
                    <a:pt x="0" y="0"/>
                  </a:moveTo>
                  <a:lnTo>
                    <a:pt x="0" y="161"/>
                  </a:lnTo>
                  <a:lnTo>
                    <a:pt x="1899" y="145"/>
                  </a:lnTo>
                  <a:lnTo>
                    <a:pt x="1899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89920" y="625320"/>
              <a:ext cx="1003320" cy="82800"/>
            </a:xfrm>
            <a:custGeom>
              <a:avLst/>
              <a:gdLst/>
              <a:ahLst/>
              <a:rect l="l" t="t" r="r" b="b"/>
              <a:pathLst>
                <a:path w="1895" h="158">
                  <a:moveTo>
                    <a:pt x="0" y="0"/>
                  </a:moveTo>
                  <a:lnTo>
                    <a:pt x="0" y="158"/>
                  </a:lnTo>
                  <a:lnTo>
                    <a:pt x="1895" y="148"/>
                  </a:lnTo>
                  <a:lnTo>
                    <a:pt x="189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391520" y="790560"/>
              <a:ext cx="1701720" cy="100080"/>
            </a:xfrm>
            <a:custGeom>
              <a:avLst/>
              <a:gdLst/>
              <a:ahLst/>
              <a:rect l="l" t="t" r="r" b="b"/>
              <a:pathLst>
                <a:path w="3215" h="190">
                  <a:moveTo>
                    <a:pt x="0" y="10"/>
                  </a:moveTo>
                  <a:lnTo>
                    <a:pt x="0" y="178"/>
                  </a:lnTo>
                  <a:lnTo>
                    <a:pt x="3215" y="190"/>
                  </a:lnTo>
                  <a:lnTo>
                    <a:pt x="321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96516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4">
                  <a:moveTo>
                    <a:pt x="0" y="14"/>
                  </a:moveTo>
                  <a:lnTo>
                    <a:pt x="0" y="174"/>
                  </a:lnTo>
                  <a:lnTo>
                    <a:pt x="3215" y="164"/>
                  </a:lnTo>
                  <a:lnTo>
                    <a:pt x="3215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91520" y="114768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6">
                  <a:moveTo>
                    <a:pt x="0" y="0"/>
                  </a:moveTo>
                  <a:lnTo>
                    <a:pt x="0" y="175"/>
                  </a:lnTo>
                  <a:lnTo>
                    <a:pt x="3215" y="176"/>
                  </a:lnTo>
                  <a:lnTo>
                    <a:pt x="321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2644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4" y="78"/>
                  </a:moveTo>
                  <a:lnTo>
                    <a:pt x="43" y="58"/>
                  </a:lnTo>
                  <a:lnTo>
                    <a:pt x="73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7" y="32"/>
                  </a:lnTo>
                  <a:lnTo>
                    <a:pt x="43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4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54236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1" y="78"/>
                  </a:moveTo>
                  <a:lnTo>
                    <a:pt x="42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6" y="32"/>
                  </a:lnTo>
                  <a:lnTo>
                    <a:pt x="42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1" y="78"/>
                  </a:lnTo>
                  <a:lnTo>
                    <a:pt x="11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59720" y="1364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12" y="78"/>
                  </a:moveTo>
                  <a:lnTo>
                    <a:pt x="43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3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3" y="46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7384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3" y="78"/>
                  </a:moveTo>
                  <a:lnTo>
                    <a:pt x="45" y="58"/>
                  </a:lnTo>
                  <a:lnTo>
                    <a:pt x="76" y="78"/>
                  </a:lnTo>
                  <a:lnTo>
                    <a:pt x="62" y="45"/>
                  </a:lnTo>
                  <a:lnTo>
                    <a:pt x="86" y="32"/>
                  </a:lnTo>
                  <a:lnTo>
                    <a:pt x="57" y="32"/>
                  </a:lnTo>
                  <a:lnTo>
                    <a:pt x="45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3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89156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12" y="78"/>
                  </a:moveTo>
                  <a:lnTo>
                    <a:pt x="43" y="58"/>
                  </a:lnTo>
                  <a:lnTo>
                    <a:pt x="75" y="78"/>
                  </a:lnTo>
                  <a:lnTo>
                    <a:pt x="63" y="45"/>
                  </a:lnTo>
                  <a:lnTo>
                    <a:pt x="85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6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0748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4" y="78"/>
                  </a:moveTo>
                  <a:lnTo>
                    <a:pt x="44" y="58"/>
                  </a:lnTo>
                  <a:lnTo>
                    <a:pt x="76" y="78"/>
                  </a:lnTo>
                  <a:lnTo>
                    <a:pt x="63" y="45"/>
                  </a:lnTo>
                  <a:lnTo>
                    <a:pt x="86" y="32"/>
                  </a:lnTo>
                  <a:lnTo>
                    <a:pt x="58" y="32"/>
                  </a:lnTo>
                  <a:lnTo>
                    <a:pt x="43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4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4851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3" y="74"/>
                  </a:moveTo>
                  <a:lnTo>
                    <a:pt x="44" y="56"/>
                  </a:lnTo>
                  <a:lnTo>
                    <a:pt x="76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3" y="74"/>
                  </a:lnTo>
                  <a:lnTo>
                    <a:pt x="13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010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1" y="74"/>
                  </a:moveTo>
                  <a:lnTo>
                    <a:pt x="41" y="56"/>
                  </a:lnTo>
                  <a:lnTo>
                    <a:pt x="74" y="74"/>
                  </a:lnTo>
                  <a:lnTo>
                    <a:pt x="63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1" y="7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71696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2" y="74"/>
                  </a:moveTo>
                  <a:lnTo>
                    <a:pt x="44" y="56"/>
                  </a:lnTo>
                  <a:lnTo>
                    <a:pt x="75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2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8343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12" y="74"/>
                  </a:moveTo>
                  <a:lnTo>
                    <a:pt x="43" y="56"/>
                  </a:lnTo>
                  <a:lnTo>
                    <a:pt x="75" y="74"/>
                  </a:lnTo>
                  <a:lnTo>
                    <a:pt x="63" y="44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2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502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11" y="74"/>
                  </a:moveTo>
                  <a:lnTo>
                    <a:pt x="43" y="56"/>
                  </a:lnTo>
                  <a:lnTo>
                    <a:pt x="74" y="74"/>
                  </a:lnTo>
                  <a:lnTo>
                    <a:pt x="61" y="44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1" y="7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42644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7"/>
                  </a:lnTo>
                  <a:lnTo>
                    <a:pt x="73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54236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659720" y="26208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6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77384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7"/>
                  </a:lnTo>
                  <a:lnTo>
                    <a:pt x="76" y="75"/>
                  </a:lnTo>
                  <a:lnTo>
                    <a:pt x="62" y="46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3" y="7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89156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7"/>
                  </a:lnTo>
                  <a:lnTo>
                    <a:pt x="75" y="75"/>
                  </a:lnTo>
                  <a:lnTo>
                    <a:pt x="63" y="46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6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0748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7"/>
                  </a:lnTo>
                  <a:lnTo>
                    <a:pt x="76" y="75"/>
                  </a:lnTo>
                  <a:lnTo>
                    <a:pt x="63" y="46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4851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3" y="77"/>
                  </a:moveTo>
                  <a:lnTo>
                    <a:pt x="44" y="58"/>
                  </a:lnTo>
                  <a:lnTo>
                    <a:pt x="76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3" y="7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010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1" y="77"/>
                  </a:moveTo>
                  <a:lnTo>
                    <a:pt x="41" y="58"/>
                  </a:lnTo>
                  <a:lnTo>
                    <a:pt x="74" y="77"/>
                  </a:lnTo>
                  <a:lnTo>
                    <a:pt x="63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1696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4" y="58"/>
                  </a:lnTo>
                  <a:lnTo>
                    <a:pt x="75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8343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2" y="77"/>
                  </a:moveTo>
                  <a:lnTo>
                    <a:pt x="43" y="58"/>
                  </a:lnTo>
                  <a:lnTo>
                    <a:pt x="75" y="77"/>
                  </a:lnTo>
                  <a:lnTo>
                    <a:pt x="63" y="46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502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3" y="58"/>
                  </a:lnTo>
                  <a:lnTo>
                    <a:pt x="74" y="77"/>
                  </a:lnTo>
                  <a:lnTo>
                    <a:pt x="61" y="46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42644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4" y="76"/>
                  </a:moveTo>
                  <a:lnTo>
                    <a:pt x="43" y="57"/>
                  </a:lnTo>
                  <a:lnTo>
                    <a:pt x="73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4236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2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659720" y="38736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2" y="76"/>
                  </a:moveTo>
                  <a:lnTo>
                    <a:pt x="43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77384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3" y="76"/>
                  </a:moveTo>
                  <a:lnTo>
                    <a:pt x="45" y="57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89156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3" y="57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00748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4" y="76"/>
                  </a:moveTo>
                  <a:lnTo>
                    <a:pt x="44" y="57"/>
                  </a:lnTo>
                  <a:lnTo>
                    <a:pt x="76" y="76"/>
                  </a:lnTo>
                  <a:lnTo>
                    <a:pt x="63" y="45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851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8"/>
                  </a:lnTo>
                  <a:lnTo>
                    <a:pt x="76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010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8"/>
                  </a:lnTo>
                  <a:lnTo>
                    <a:pt x="74" y="76"/>
                  </a:lnTo>
                  <a:lnTo>
                    <a:pt x="63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1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1696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8"/>
                  </a:lnTo>
                  <a:lnTo>
                    <a:pt x="75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43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8"/>
                  </a:lnTo>
                  <a:lnTo>
                    <a:pt x="75" y="76"/>
                  </a:lnTo>
                  <a:lnTo>
                    <a:pt x="63" y="47"/>
                  </a:lnTo>
                  <a:lnTo>
                    <a:pt x="86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502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8"/>
                  </a:lnTo>
                  <a:lnTo>
                    <a:pt x="74" y="76"/>
                  </a:lnTo>
                  <a:lnTo>
                    <a:pt x="61" y="47"/>
                  </a:lnTo>
                  <a:lnTo>
                    <a:pt x="84" y="32"/>
                  </a:lnTo>
                  <a:lnTo>
                    <a:pt x="55" y="32"/>
                  </a:lnTo>
                  <a:lnTo>
                    <a:pt x="41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42644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4" y="77"/>
                  </a:moveTo>
                  <a:lnTo>
                    <a:pt x="43" y="57"/>
                  </a:lnTo>
                  <a:lnTo>
                    <a:pt x="73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4" y="7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4236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2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59720" y="5126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12" y="77"/>
                  </a:moveTo>
                  <a:lnTo>
                    <a:pt x="43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7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7384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3" y="77"/>
                  </a:moveTo>
                  <a:lnTo>
                    <a:pt x="45" y="57"/>
                  </a:lnTo>
                  <a:lnTo>
                    <a:pt x="76" y="77"/>
                  </a:lnTo>
                  <a:lnTo>
                    <a:pt x="62" y="47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3" y="7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9156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3" y="57"/>
                  </a:lnTo>
                  <a:lnTo>
                    <a:pt x="75" y="77"/>
                  </a:lnTo>
                  <a:lnTo>
                    <a:pt x="63" y="47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7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748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4" y="77"/>
                  </a:moveTo>
                  <a:lnTo>
                    <a:pt x="44" y="57"/>
                  </a:lnTo>
                  <a:lnTo>
                    <a:pt x="76" y="77"/>
                  </a:lnTo>
                  <a:lnTo>
                    <a:pt x="63" y="47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4" y="7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851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6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010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6"/>
                  </a:lnTo>
                  <a:lnTo>
                    <a:pt x="74" y="76"/>
                  </a:lnTo>
                  <a:lnTo>
                    <a:pt x="63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1" y="0"/>
                  </a:lnTo>
                  <a:lnTo>
                    <a:pt x="30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1696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6"/>
                  </a:lnTo>
                  <a:lnTo>
                    <a:pt x="75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343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6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6" y="30"/>
                  </a:lnTo>
                  <a:lnTo>
                    <a:pt x="56" y="30"/>
                  </a:lnTo>
                  <a:lnTo>
                    <a:pt x="43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502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6"/>
                  </a:lnTo>
                  <a:lnTo>
                    <a:pt x="74" y="76"/>
                  </a:lnTo>
                  <a:lnTo>
                    <a:pt x="61" y="45"/>
                  </a:lnTo>
                  <a:lnTo>
                    <a:pt x="84" y="30"/>
                  </a:lnTo>
                  <a:lnTo>
                    <a:pt x="55" y="30"/>
                  </a:lnTo>
                  <a:lnTo>
                    <a:pt x="41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2644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5"/>
                  </a:lnTo>
                  <a:lnTo>
                    <a:pt x="73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4236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59720" y="63972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5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7384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5"/>
                  </a:lnTo>
                  <a:lnTo>
                    <a:pt x="76" y="75"/>
                  </a:lnTo>
                  <a:lnTo>
                    <a:pt x="62" y="43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3" y="7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9156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5"/>
                  </a:lnTo>
                  <a:lnTo>
                    <a:pt x="75" y="75"/>
                  </a:lnTo>
                  <a:lnTo>
                    <a:pt x="63" y="43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5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748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5"/>
                  </a:lnTo>
                  <a:lnTo>
                    <a:pt x="76" y="75"/>
                  </a:lnTo>
                  <a:lnTo>
                    <a:pt x="63" y="43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March on the Pentagon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64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October 21, 1967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of 5 days of protests organized by the National Mobilization Committee to End the War in Vietn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speakers came to address the crowd (Robert Lowell, Benjamin Sp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test escalated when the leaders of the Youth International Party announced they were going to “exorcise” the Pent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surrounded the building and chanted spells to try and drive out the “evil war spiri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r gas was released into the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500 troops guarded the Pent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81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rch on the Pentagon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 fontScale="9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2286000"/>
            <a:ext cx="2782800" cy="41529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114800" y="1701720"/>
            <a:ext cx="4648320" cy="309888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The Moratorium Rally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 (D.C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November 15, 1969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’s biggest anti- war demonstration 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,000- 500,000 protestors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ttle less w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J was out of office and Nixon had initiated his “Vietnamization”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e had learned how to handle pro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000 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,000 Army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Law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 Clergy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 was peaceful for the mos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5 arrest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Moratorium Rally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(cont.)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867280" cy="438012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838080" y="5873760"/>
            <a:ext cx="7391520" cy="64260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ddict"/>
              </a:rPr>
              <a:t>The Moratorium Rally was the largest anti-war protest in U.S.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In response to Nixon’s invasion of Cambodia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want to be draf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May 1, 1970- Day On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demonstration on the College’s co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midnight rowdy bikers began throwing bottles and vandalizing cars in the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100 students join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e eventually got the situation unde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0">
              <a:spcBef>
                <a:spcPts val="601"/>
              </a:spcBef>
              <a:buNone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May 2, 1970- Day Two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of Emergency declared in K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io Governor, James A. Rhodes, called in the National G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ions continued on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 Officer Training Corps building was set on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men and police were pelted with rocks by the surrounding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p.m.- National Guard set up camp on Kent State’s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ear gas and arrested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person was bayon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May 3, 1970- Day Three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ro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few imposed on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 fontScale="9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57800" cy="34718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1143000" y="5638680"/>
            <a:ext cx="7086600" cy="7038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ddict"/>
              </a:rPr>
              <a:t>The National Guard was sent in to maintain order on Kent State’s campus</a:t>
            </a:r>
            <a:r>
              <a:rPr b="1" lang="en-US" sz="2000" spc="-1" strike="noStrike">
                <a:solidFill>
                  <a:srgbClr val="990000"/>
                </a:solidFill>
                <a:latin typeface="Addi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722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May 4, 1970- Day Four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lanned rally comm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. 2,000 peopl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Guard told them to disp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re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ops sprayed the crowd with tear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wd began throwing rocks and chased the National Guard off camp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s off Camp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being chased up a hill by the angry protestors, the National Guard opened fire on the 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ing lasted 1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(cont.)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301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 fontScale="9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343400" cy="34020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04920" y="2454120"/>
            <a:ext cx="3962160" cy="214812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228600" y="4740120"/>
            <a:ext cx="4114800" cy="6426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ddict"/>
              </a:rPr>
              <a:t>The National Guard was chased up a hill by angry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5486400"/>
            <a:ext cx="4343400" cy="91692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ddict"/>
              </a:rPr>
              <a:t>A shocked student grieves over a dead body, shot down by the National 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3:04:11Z</dcterms:created>
  <dc:creator>Joseph Montuori</dc:creator>
  <dc:description/>
  <dc:language>en-US</dc:language>
  <cp:lastModifiedBy>School District U46</cp:lastModifiedBy>
  <dcterms:modified xsi:type="dcterms:W3CDTF">2008-05-21T19:29:10Z</dcterms:modified>
  <cp:revision>377</cp:revision>
  <dc:subject/>
  <dc:title>The Vietnam War, 1954-1975</dc:title>
</cp:coreProperties>
</file>